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9CB-872F-4DCD-BEA2-706367AE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E4E-FFDD-40C8-94C1-2EC5CFA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870-D9F6-424E-9BD9-BF32D6CE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3B6-5889-4C76-BD2A-DAAF2E9A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D4D-1366-4A35-AB15-3DEF8614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F24D-82A3-4048-9827-53088DCF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62F-37F0-4D7E-BF53-E700008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557-BA45-49FF-9CF3-5790A5D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11B-DDF3-474A-ABF6-4EC3B479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D0B0-7089-4544-84B7-3030545C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A25C-2E42-48CB-BCC6-5BD5575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863-17DC-44D7-9770-3BEFB03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BF0-4C1E-48EF-A550-11BBC8E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AD3-AC18-4EDD-8A43-FCD11ADD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CFC1-4045-403F-B82C-8C1379F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A3B-2656-4A67-82DF-B6C69BE3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26C8-FA9A-4443-A077-7DF2E48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8DC8-C147-4F46-83CD-C9C25763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458F-28C0-4112-8254-10CC5FD3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5E68-8269-439F-A969-6E5F13EF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C2B0-300F-48D9-B676-AA68EA3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8760-EFB5-4BF1-B8C9-17629FF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C1F-DF4C-46E9-8EE9-E51095D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609E-C442-4B43-8745-957F81E4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F182-8799-4C1D-99F1-B32E780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6726-B885-415B-8A6B-ABD1D97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85DC-D763-4479-B5E7-4E9C65E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591C-072C-475A-8577-9026481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5BC2-6448-42D7-A8AC-6A49CC55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A5F8-BF87-4F32-A869-F98E7D44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D650-CC76-491B-941F-4996A15D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CA20-EDF4-4E3B-8DC4-8CEFEC6A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D945-BD5E-4EDF-ABA4-FFE79EC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BA2-9861-4860-80B7-A20D7098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15AB-B559-4935-A44E-8A05CD93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1FEC-8665-41D6-8778-1B788BF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011D-780B-459D-9B2C-D7F6A70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6DE4-5C45-4984-8228-157FDC5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8418-5755-4028-81E5-0805700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F86C-27A4-496E-80F8-EE1A9754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65EE-D3D2-43FA-96D5-05FCDB7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585F-D4AD-4E9B-93E3-1776224E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4C62-351B-4102-932A-415BF38D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4E3-F0C1-48D8-8F4A-CDDF2E1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68B-84FB-4C8C-9570-3B98F871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F18-027B-4AFA-9B97-AC648671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5DA-9000-4B65-BD0F-048CBA4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DD2-F30E-40D2-AEA5-F242D92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95F-213B-4568-8BD8-20162901CF0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61C3-CDD6-4896-9C2E-8FE722E466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B43-865B-4291-A2DC-E2ACA9912D0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21AE-53C5-4FEE-AF73-3F890F0B07C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AFB-F1B7-4F91-BADB-F02A8E62635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F063-D92E-4DDF-A2CA-C3DBBFF421F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F8C-2AA1-4B60-96D7-FD308E61DD2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F38-867F-49A5-8698-F0A872B67F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. 22 Warm-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560" y="198072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are and contrast natural selection vs. artificial sele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are the key ideas of natural selectio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fine and give an example for the follow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mologous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stigial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alogous stru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3. Homolog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93464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Homolo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haracteristics in related species can hav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nderlying similarit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though functions may diff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omologous structu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anatomy from common ancestors (eg. forelimbs of human/cat/whale/ba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Embryonic homolog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early development (eg. vertebrate embryos with tail &amp; pharyngeal pouch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Vestigial orga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tructures w/little or no use (eg. flightless bird w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Molecular homolog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similar DNA and amino acid 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22_15HomologousForelimbs-L.jpg"/>
          <p:cNvPicPr/>
          <p:nvPr/>
        </p:nvPicPr>
        <p:blipFill>
          <a:blip r:embed="rId2"/>
          <a:stretch/>
        </p:blipFill>
        <p:spPr>
          <a:xfrm>
            <a:off x="304920" y="1981080"/>
            <a:ext cx="8547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22_16_HomologousEmbryos-L.jpg"/>
          <p:cNvPicPr/>
          <p:nvPr/>
        </p:nvPicPr>
        <p:blipFill>
          <a:blip r:embed="rId2"/>
          <a:stretch/>
        </p:blipFill>
        <p:spPr>
          <a:xfrm>
            <a:off x="914400" y="2057400"/>
            <a:ext cx="732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419720" cy="3822840"/>
          </a:xfrm>
          <a:prstGeom prst="rect">
            <a:avLst/>
          </a:prstGeom>
          <a:ln w="0">
            <a:noFill/>
          </a:ln>
        </p:spPr>
      </p:pic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73080" y="573120"/>
            <a:ext cx="8699400" cy="957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1981440" cy="2251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4"/>
          <a:stretch/>
        </p:blipFill>
        <p:spPr>
          <a:xfrm>
            <a:off x="3657600" y="3276720"/>
            <a:ext cx="2457360" cy="313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793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lecular Homolog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26668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DNA and amino acid seq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1"/>
          <a:stretch/>
        </p:blipFill>
        <p:spPr>
          <a:xfrm>
            <a:off x="4191120" y="771480"/>
            <a:ext cx="471636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22_17TreeThinkingInfo-L.jpg"/>
          <p:cNvPicPr/>
          <p:nvPr/>
        </p:nvPicPr>
        <p:blipFill>
          <a:blip r:embed="rId2"/>
          <a:stretch/>
        </p:blipFill>
        <p:spPr>
          <a:xfrm>
            <a:off x="1219320" y="2048040"/>
            <a:ext cx="6705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vergent Ev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antly related species can resemble one anot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Similar problem, similar solution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Analogous structur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similar structures, function in similar environ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Torpedo shape of shark, penguin, &amp; dolph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3" descr="22_18_ConvergentEvolu-L.jpg"/>
          <p:cNvPicPr/>
          <p:nvPr/>
        </p:nvPicPr>
        <p:blipFill>
          <a:blip r:embed="rId1"/>
          <a:stretch/>
        </p:blipFill>
        <p:spPr>
          <a:xfrm>
            <a:off x="2590920" y="4114800"/>
            <a:ext cx="42195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4. Biogeograph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Biogeograph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geographic distribution of a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pecies in nearby geographic areas resemble each ot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Continental drif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Pangae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similarities on different contin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Endemic speci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found at a certain geographic location and nowhere el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Marine iguanas in the Galapag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3" descr=""/>
          <p:cNvPicPr/>
          <p:nvPr/>
        </p:nvPicPr>
        <p:blipFill>
          <a:blip r:embed="rId1"/>
          <a:stretch/>
        </p:blipFill>
        <p:spPr>
          <a:xfrm>
            <a:off x="73080" y="725400"/>
            <a:ext cx="8699400" cy="9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371600" y="1803240"/>
            <a:ext cx="6172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81216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95320" y="3228480"/>
            <a:ext cx="3892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cent with Modific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Darwinian View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 B: Evidence for Evolu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5" descr="22_02aDarwinContext-U.jpg"/>
          <p:cNvPicPr/>
          <p:nvPr/>
        </p:nvPicPr>
        <p:blipFill>
          <a:blip r:embed="rId2"/>
          <a:stretch/>
        </p:blipFill>
        <p:spPr>
          <a:xfrm>
            <a:off x="457200" y="2057400"/>
            <a:ext cx="4059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26_21_ThreeDomains-L.jpg"/>
          <p:cNvPicPr/>
          <p:nvPr/>
        </p:nvPicPr>
        <p:blipFill>
          <a:blip r:embed="rId1"/>
          <a:stretch/>
        </p:blipFill>
        <p:spPr>
          <a:xfrm>
            <a:off x="1905120" y="1447920"/>
            <a:ext cx="6933960" cy="5178240"/>
          </a:xfrm>
          <a:prstGeom prst="rect">
            <a:avLst/>
          </a:prstGeom>
          <a:ln w="0">
            <a:noFill/>
          </a:ln>
        </p:spPr>
      </p:pic>
      <p:pic>
        <p:nvPicPr>
          <p:cNvPr id="244" name="Title 1" descr=""/>
          <p:cNvPicPr/>
          <p:nvPr/>
        </p:nvPicPr>
        <p:blipFill>
          <a:blip r:embed="rId2"/>
          <a:stretch/>
        </p:blipFill>
        <p:spPr>
          <a:xfrm>
            <a:off x="0" y="682560"/>
            <a:ext cx="8693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ral examples of evidence for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fference between structures that are homologous and those that are analogous, and how this relates to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ecap main ideas of natural selec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olution is change in species over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overproduction of offspring, which leads to competition for resou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ritable variations exist within a popul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se variations can result in differential reproductive suc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 generations, this can result in changes in the genetic composition of the popul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ndividuals do NOT evolve!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opulation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evol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Observ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ssil Recor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m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iogeograph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idence for Ev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935000"/>
          <a:ext cx="8229600" cy="431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Direct Observ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Fossil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Hom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Bio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1. Direct Observa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1904760"/>
            <a:ext cx="8610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ct populations become resistant to pesticides (DD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tibiotic-resistant bacteria (MR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ppered moth (pollution in city vs. count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2286000" cy="227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380880" y="4189320"/>
            <a:ext cx="2362320" cy="23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3056040" cy="231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vidence for Evolution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2. Fossil Reco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ossil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remains or traces of organisms from pa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 in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sedimentary ro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aleontolog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study of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w evolutionary changes that occur over time and origin of major new groups of organis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22_19_AnkleBones-L.jpg"/>
          <p:cNvPicPr/>
          <p:nvPr/>
        </p:nvPicPr>
        <p:blipFill>
          <a:blip r:embed="rId1"/>
          <a:stretch/>
        </p:blipFill>
        <p:spPr>
          <a:xfrm>
            <a:off x="2057400" y="4419720"/>
            <a:ext cx="520380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600" y="990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karyotes (oldest fossil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ukaryotes (fish – amphibians – reptiles – birds – mammal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itional forms = links to modern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2640" indent="-51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1148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8:31:25Z</dcterms:created>
  <dc:creator>Chris Nancy Chou</dc:creator>
  <dc:description/>
  <dc:language>en-US</dc:language>
  <cp:lastModifiedBy>Chris Nancy Chou</cp:lastModifiedBy>
  <dcterms:modified xsi:type="dcterms:W3CDTF">2013-01-30T06:00:24Z</dcterms:modified>
  <cp:revision>34</cp:revision>
  <dc:subject/>
  <dc:title>Chapter 22</dc:title>
</cp:coreProperties>
</file>